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8DE-0C89-46CE-80B8-733BE33E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036-ED81-46AE-AC11-13E45B28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17F-6EEC-477C-BBEA-C3CE8690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9C6-F7B7-4A34-A4B5-E925DB20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114-F549-457C-AD79-70D3FB2A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B88-66EC-4966-BA2A-81B37BE1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7C6-2C03-4D26-ADDA-EC7C89B1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5DF-0B70-4C72-99F6-2268D79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24F-9953-47D6-9196-7C0AE970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154-BAB4-473C-ACCB-F9BE45CD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E76-B8E9-44A0-9778-255CAAAC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058-17A4-4169-BA56-644884E9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3884-4820-4E73-B6DC-A89C8AC03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zenship &amp; Democra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History-17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al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pter 1,2,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3840" y="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99520" y="282600"/>
            <a:ext cx="5752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Pro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oston Te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omas Paine; Common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ovement to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inental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claration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evolutionary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“Shot heard round the wor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eaty of Paris 17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ain Point/Summ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912960" y="228600"/>
            <a:ext cx="8463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3: AOC/Road to Constit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et-up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les of Con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First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Accomplis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W Ordinance of 1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en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regulate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single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national cou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Hard to amend/fix/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Shay’s Rebe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87440" y="282600"/>
            <a:ext cx="7894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New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hiladelphia Convention/Constitutional Con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legates, e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orge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irgini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cameral;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ew Jerse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nicameral; Eq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reat/Connecticut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ca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use;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;Eq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lav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ree-Fifths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9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7480" y="263520"/>
            <a:ext cx="471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d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-Fed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ain Point/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376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067040" y="133200"/>
            <a:ext cx="10253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: What is Gover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Study of the rights and duties of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articipant’s right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Ruling authority for a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Keep order,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Publi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Guid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National, State,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Fede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Direct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Representative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Authoritarian, Totalitari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5320" y="304920"/>
            <a:ext cx="5109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Values &amp;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ule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mi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nsent of the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ndividua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presentative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ajority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Summary/Main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371880" y="39600"/>
            <a:ext cx="6393600" cy="75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.2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Citize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Qual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tu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m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i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Old 1600-1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urop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f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ew 1900-2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at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ast-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outh-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North-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Patriotism, Nat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erro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4120" y="1219320"/>
            <a:ext cx="832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colonies were sett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dividuals from many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theless, the majority of American settl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from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rights that American citizens enjo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traced to the political and legal traditions of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glish people began settling in the Americ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rought with them a tradition of lim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presentativ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54760" y="4381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Reading! Read Careful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51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249480" y="246240"/>
            <a:ext cx="7547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2: Road to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s of America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nglish Heri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Magna C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nlighte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John Lo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Natura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English 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Common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Colonial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ocial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Separation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el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Limi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525600"/>
            <a:ext cx="8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400" y="3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7200" y="506520"/>
            <a:ext cx="6191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The First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Jamestown 16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irginia House of Burg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w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ayflower 1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ilgrims/Purit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yflower Co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ligious Pers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riangular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ive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Th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New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A, RI, NH, 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wns,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386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1680"/>
            <a:ext cx="7081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iddl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Y, PA, NJ,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griculture,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D, VA, NC, SC,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rge-scale Agricul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la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Colonial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rcanti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axes (why?) Statutory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Quartering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mp 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oston Mass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clamation Act of 17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00:24:39Z</dcterms:created>
  <dc:creator>Chatham County</dc:creator>
  <dc:description/>
  <dc:language>en-US</dc:language>
  <cp:lastModifiedBy>Chatham County</cp:lastModifiedBy>
  <cp:lastPrinted>2008-08-26T12:47:16Z</cp:lastPrinted>
  <dcterms:modified xsi:type="dcterms:W3CDTF">2009-08-09T02:18:42Z</dcterms:modified>
  <cp:revision>1</cp:revision>
  <dc:subject/>
  <dc:title>Citizenship &amp; Democracy U.S. History-1789</dc:title>
</cp:coreProperties>
</file>